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919-BD57-43C7-9593-110A4676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734-071E-44B2-A19C-4B917F5E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716-09E5-4B4D-911C-22B466E7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94A-0D68-4B88-87B1-50176216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3E4-679B-43F5-A1AC-44CFA426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4A7-87B0-4D07-B529-E2AF35B0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8F2-3076-4A2F-9A66-E31A5047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A5D-6244-44AD-8542-8DB03CF3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A5D2-A8FC-4173-92CC-F142ADD5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8A5-B69E-416E-90B9-0CB1BC89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FE6-E1A5-40BC-B4A3-6828E837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3D2-27C8-4C8D-BEC6-DB732F1D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6E76-4972-4A08-B73F-90E04B4B54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268280"/>
            <a:ext cx="7991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On the left will appear the European countries, with your mouse drag and drop them on the place where they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t may look easy but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ShockwaveFlash1"/>
          <p:cNvGraphicFramePr/>
          <p:nvPr/>
        </p:nvGraphicFramePr>
        <p:xfrm>
          <a:off x="0" y="83664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540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343640" y="6453360"/>
            <a:ext cx="1800360" cy="404640"/>
          </a:xfrm>
          <a:custGeom>
            <a:avLst/>
            <a:gdLst>
              <a:gd name="textAreaLeft" fmla="*/ 25920 w 1800360"/>
              <a:gd name="textAreaRight" fmla="*/ 1774440 w 1800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6038" h="21600">
                <a:moveTo>
                  <a:pt x="0" y="0"/>
                </a:moveTo>
                <a:lnTo>
                  <a:pt x="96038" y="0"/>
                </a:lnTo>
                <a:lnTo>
                  <a:pt x="96038" y="21600"/>
                </a:lnTo>
                <a:lnTo>
                  <a:pt x="0" y="21600"/>
                </a:lnTo>
                <a:close/>
              </a:path>
              <a:path fill="lightenLess" w="96038" h="21600">
                <a:moveTo>
                  <a:pt x="0" y="0"/>
                </a:moveTo>
                <a:lnTo>
                  <a:pt x="96038" y="0"/>
                </a:lnTo>
                <a:lnTo>
                  <a:pt x="94638" y="1400"/>
                </a:lnTo>
                <a:lnTo>
                  <a:pt x="1400" y="1400"/>
                </a:lnTo>
                <a:close/>
              </a:path>
              <a:path fill="darken" w="96038" h="21600">
                <a:moveTo>
                  <a:pt x="96038" y="0"/>
                </a:moveTo>
                <a:lnTo>
                  <a:pt x="96038" y="21600"/>
                </a:lnTo>
                <a:lnTo>
                  <a:pt x="94638" y="20200"/>
                </a:lnTo>
                <a:lnTo>
                  <a:pt x="94638" y="1400"/>
                </a:lnTo>
                <a:close/>
              </a:path>
              <a:path fill="darkenLess" w="96038" h="21600">
                <a:moveTo>
                  <a:pt x="96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638" y="20200"/>
                </a:lnTo>
                <a:close/>
              </a:path>
              <a:path fill="lighten" w="96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endshow"/>
          </p:cNvPr>
          <p:cNvSpPr/>
          <p:nvPr/>
        </p:nvSpPr>
        <p:spPr>
          <a:xfrm flipV="1">
            <a:off x="7308720" y="6453360"/>
            <a:ext cx="1835280" cy="404640"/>
          </a:xfrm>
          <a:custGeom>
            <a:avLst/>
            <a:gdLst>
              <a:gd name="textAreaLeft" fmla="*/ 25920 w 1835280"/>
              <a:gd name="textAreaRight" fmla="*/ 1809360 w 1835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7901" h="21600">
                <a:moveTo>
                  <a:pt x="0" y="0"/>
                </a:moveTo>
                <a:lnTo>
                  <a:pt x="97901" y="0"/>
                </a:lnTo>
                <a:lnTo>
                  <a:pt x="97901" y="21600"/>
                </a:lnTo>
                <a:lnTo>
                  <a:pt x="0" y="21600"/>
                </a:lnTo>
                <a:close/>
              </a:path>
              <a:path fill="lightenLess" w="97901" h="21600">
                <a:moveTo>
                  <a:pt x="0" y="0"/>
                </a:moveTo>
                <a:lnTo>
                  <a:pt x="97901" y="0"/>
                </a:lnTo>
                <a:lnTo>
                  <a:pt x="96501" y="1400"/>
                </a:lnTo>
                <a:lnTo>
                  <a:pt x="1400" y="1400"/>
                </a:lnTo>
                <a:close/>
              </a:path>
              <a:path fill="darken" w="97901" h="21600">
                <a:moveTo>
                  <a:pt x="97901" y="0"/>
                </a:moveTo>
                <a:lnTo>
                  <a:pt x="97901" y="21600"/>
                </a:lnTo>
                <a:lnTo>
                  <a:pt x="96501" y="20200"/>
                </a:lnTo>
                <a:lnTo>
                  <a:pt x="96501" y="1400"/>
                </a:lnTo>
                <a:close/>
              </a:path>
              <a:path fill="darkenLess" w="97901" h="21600">
                <a:moveTo>
                  <a:pt x="97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501" y="20200"/>
                </a:lnTo>
                <a:close/>
              </a:path>
              <a:path fill="lighten" w="97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901" h="21600">
                <a:moveTo>
                  <a:pt x="41944" y="7493"/>
                </a:moveTo>
                <a:lnTo>
                  <a:pt x="45452" y="7493"/>
                </a:lnTo>
                <a:lnTo>
                  <a:pt x="45452" y="12828"/>
                </a:lnTo>
                <a:cubicBezTo>
                  <a:pt x="45452" y="13751"/>
                  <a:pt x="46252" y="14482"/>
                  <a:pt x="47288" y="14482"/>
                </a:cubicBezTo>
                <a:lnTo>
                  <a:pt x="48950" y="14482"/>
                </a:lnTo>
                <a:cubicBezTo>
                  <a:pt x="49986" y="14482"/>
                  <a:pt x="50787" y="13751"/>
                  <a:pt x="50787" y="12828"/>
                </a:cubicBezTo>
                <a:lnTo>
                  <a:pt x="50787" y="7493"/>
                </a:lnTo>
                <a:lnTo>
                  <a:pt x="48950" y="7493"/>
                </a:lnTo>
                <a:lnTo>
                  <a:pt x="52458" y="3985"/>
                </a:lnTo>
                <a:lnTo>
                  <a:pt x="56131" y="7493"/>
                </a:lnTo>
                <a:lnTo>
                  <a:pt x="54294" y="7493"/>
                </a:lnTo>
                <a:lnTo>
                  <a:pt x="54294" y="12828"/>
                </a:lnTo>
                <a:cubicBezTo>
                  <a:pt x="54294" y="15596"/>
                  <a:pt x="51718" y="18155"/>
                  <a:pt x="48950" y="18155"/>
                </a:cubicBezTo>
                <a:lnTo>
                  <a:pt x="47288" y="18155"/>
                </a:lnTo>
                <a:cubicBezTo>
                  <a:pt x="44520" y="18155"/>
                  <a:pt x="41944" y="15596"/>
                  <a:pt x="4194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7:32:11Z</dcterms:created>
  <dc:creator>madeleine de schutter</dc:creator>
  <dc:description/>
  <dc:language>en-US</dc:language>
  <cp:lastModifiedBy>RDSC</cp:lastModifiedBy>
  <dcterms:modified xsi:type="dcterms:W3CDTF">2006-09-13T06:38:50Z</dcterms:modified>
  <cp:revision>19</cp:revision>
  <dc:subject/>
  <dc:title>Dia 1</dc:title>
</cp:coreProperties>
</file>